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E5B9-CCF4-4EDF-84FE-7A8B32C39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9DBD-CCAC-4525-B289-090F10BEB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230-37D4-4F90-8786-220320A7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84C-8FE6-487A-B0C2-747538E7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A5F-D36C-4220-A921-30D0EE9D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778-DA14-466E-AA48-C19C1EBF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559-B54F-48EC-B4CF-517D49DB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B6E-F185-4000-9D65-959BA0D3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233-B838-4A7D-BD0B-CD4A4CE9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410-B48C-4E85-8CD4-99074B58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3DD-EB1E-4904-A8B0-E9D62786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F4E-9503-4CE0-A76E-3A75A875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794-CDDA-48CB-8D86-C2EEBFDB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FDB-EFD0-48CC-9FAB-228094AD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DC94-3A51-43CD-8041-09A814135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niela Torib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Daniela Toribi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 Daniela Toribi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Daniela Toribio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60020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yo me llamo Daniela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. Yo  vivo en New York. Yo tengo 14 años. Y tengo dos hermanos un hermano y una hermana. Yo soy una niña y me gusta bailar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2895480" y="3809880"/>
            <a:ext cx="34290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niñas. Que hacen? Quieren comer  con mig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2819520" y="3124080"/>
            <a:ext cx="36576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</a:t>
            </a:r>
            <a:r>
              <a:rPr b="0" lang="es-ES_tradnl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y yo estoy bien y tu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buenos días ¿có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895480" y="4495680"/>
            <a:ext cx="37339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y hacinó la tarea y tu? Si esta buen. A donde vamos a come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5105520"/>
            <a:ext cx="441936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 nosotras nos vimos ay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551524_497579363608127_481304548_n.jpg"/>
          <p:cNvPicPr/>
          <p:nvPr/>
        </p:nvPicPr>
        <p:blipFill>
          <a:blip r:embed="rId1"/>
          <a:stretch/>
        </p:blipFill>
        <p:spPr>
          <a:xfrm>
            <a:off x="1295280" y="5257800"/>
            <a:ext cx="457200" cy="458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523313_239856676136473_1638055208_n.jpg"/>
          <p:cNvPicPr/>
          <p:nvPr/>
        </p:nvPicPr>
        <p:blipFill>
          <a:blip r:embed="rId2"/>
          <a:stretch/>
        </p:blipFill>
        <p:spPr>
          <a:xfrm>
            <a:off x="15228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4" descr="530082_369537476424823_1322781097_n.jpg"/>
          <p:cNvPicPr/>
          <p:nvPr/>
        </p:nvPicPr>
        <p:blipFill>
          <a:blip r:embed="rId3"/>
          <a:stretch/>
        </p:blipFill>
        <p:spPr>
          <a:xfrm>
            <a:off x="762120" y="5257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5"/>
          <p:cNvSpPr/>
          <p:nvPr/>
        </p:nvSpPr>
        <p:spPr>
          <a:xfrm>
            <a:off x="152280" y="5715000"/>
            <a:ext cx="12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ile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6"/>
          <p:cNvSpPr/>
          <p:nvPr/>
        </p:nvSpPr>
        <p:spPr>
          <a:xfrm>
            <a:off x="685800" y="5715000"/>
            <a:ext cx="104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7" descr="431532_276146949128953_1337986109_n.jpg"/>
          <p:cNvPicPr/>
          <p:nvPr/>
        </p:nvPicPr>
        <p:blipFill>
          <a:blip r:embed="rId4"/>
          <a:stretch/>
        </p:blipFill>
        <p:spPr>
          <a:xfrm>
            <a:off x="152280" y="59436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8" descr="188486_305310389581798_1915360673_n.jpg"/>
          <p:cNvPicPr/>
          <p:nvPr/>
        </p:nvPicPr>
        <p:blipFill>
          <a:blip r:embed="rId5"/>
          <a:stretch/>
        </p:blipFill>
        <p:spPr>
          <a:xfrm>
            <a:off x="762120" y="59436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19320" y="56386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ris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523313_239856676136473_1638055208_n.jpg"/>
          <p:cNvPicPr/>
          <p:nvPr/>
        </p:nvPicPr>
        <p:blipFill>
          <a:blip r:embed="rId6"/>
          <a:stretch/>
        </p:blipFill>
        <p:spPr>
          <a:xfrm>
            <a:off x="2133720" y="25146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7"/>
          <a:stretch/>
        </p:blipFill>
        <p:spPr>
          <a:xfrm>
            <a:off x="228600" y="457200"/>
            <a:ext cx="1433520" cy="1920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2" descr=""/>
          <p:cNvPicPr/>
          <p:nvPr/>
        </p:nvPicPr>
        <p:blipFill>
          <a:blip r:embed="rId8"/>
          <a:stretch/>
        </p:blipFill>
        <p:spPr>
          <a:xfrm>
            <a:off x="2133720" y="3124080"/>
            <a:ext cx="533160" cy="61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8" descr="188486_305310389581798_1915360673_n.jpg"/>
          <p:cNvPicPr/>
          <p:nvPr/>
        </p:nvPicPr>
        <p:blipFill>
          <a:blip r:embed="rId9"/>
          <a:stretch/>
        </p:blipFill>
        <p:spPr>
          <a:xfrm>
            <a:off x="2209680" y="3809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5" descr=""/>
          <p:cNvPicPr/>
          <p:nvPr/>
        </p:nvPicPr>
        <p:blipFill>
          <a:blip r:embed="rId10"/>
          <a:stretch/>
        </p:blipFill>
        <p:spPr>
          <a:xfrm>
            <a:off x="2209680" y="4419720"/>
            <a:ext cx="609840" cy="66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11"/>
          <a:stretch/>
        </p:blipFill>
        <p:spPr>
          <a:xfrm>
            <a:off x="1371600" y="5943600"/>
            <a:ext cx="541440" cy="561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76320" y="6400800"/>
            <a:ext cx="1003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y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523313_239856676136473_1638055208_n.jpg"/>
          <p:cNvPicPr/>
          <p:nvPr/>
        </p:nvPicPr>
        <p:blipFill>
          <a:blip r:embed="rId12"/>
          <a:stretch/>
        </p:blipFill>
        <p:spPr>
          <a:xfrm>
            <a:off x="2209680" y="51055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0:05Z</dcterms:created>
  <dc:creator>FriscoISD</dc:creator>
  <dc:description/>
  <dc:language>en-US</dc:language>
  <cp:lastModifiedBy>User</cp:lastModifiedBy>
  <dcterms:modified xsi:type="dcterms:W3CDTF">2013-01-02T14:06:30Z</dcterms:modified>
  <cp:revision>108</cp:revision>
  <dc:subject/>
  <dc:title>Profile</dc:title>
</cp:coreProperties>
</file>